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FBD-E013-4EE7-92C8-27CC892D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EF4-6561-4635-958D-E50D7BE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C09-99C5-4F69-9955-DCFF2C45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80E-94E3-49BD-BC17-ECA4B2BE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4521-9824-4933-A11E-AC2D0628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C29-6D9D-4159-880D-321815AF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2D9B-F1C1-46C1-B790-2327BB2B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4F1-0043-46EC-A0C4-8005D65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6AFB-CC80-4482-9ACB-F116688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A8C0-CC42-46BA-9C01-936C020D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4F58-FCA2-45CF-8104-BD6E8E7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637-6918-40E2-8D65-12C8D3F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3E7-F10D-46D7-92C1-7F039DD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9015-B755-41A0-AB3D-23F2B47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969A-578F-4EA2-B5D9-174E202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FC2E-9B55-4274-AC7D-C6E5427C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C24-C799-42B6-8B79-852E3FE5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8300-DD5E-482E-ABF3-09259BE1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EB97-7367-42FF-BE74-23E867AD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B0A7-2CE1-4510-AADD-A62DA23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150F-5975-4D4B-8956-675D8E3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B6AF-1B55-48AC-ABF3-FED68C3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951-2682-4B29-BD9A-C1B88DCE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75B0-08AE-4F47-94BA-670A139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6A0F-06DB-4291-9E1D-2863EF5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0BF8-A4BF-486F-A2C5-E72FB5E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4D10-2B98-4987-A007-3A7E56C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2172-DB37-477F-AD82-DFE6F11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C5A2-4F1C-4FDB-96AC-1C4FBC28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B763-2348-4045-A123-50526BE4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6DD-5C1A-48A3-9157-432A8118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CF3-E64E-41B9-BA36-5B20563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F17-87E2-414D-84E4-0B7C270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36F-A405-401B-8C3D-2C16E90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D8A-4C24-45A3-9D31-0A54083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180-8189-49D3-8711-D9100C7A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E27-EA22-4AC0-B121-A0F14EC35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A10-5921-49F5-89C2-C949B29D8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7659720" y="179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C:\projects\99\sh2.png"/>
          <p:cNvPicPr/>
          <p:nvPr/>
        </p:nvPicPr>
        <p:blipFill>
          <a:blip r:embed="rId3"/>
          <a:stretch/>
        </p:blipFill>
        <p:spPr>
          <a:xfrm>
            <a:off x="212760" y="182520"/>
            <a:ext cx="549360" cy="37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projects\99\sh2.png"/>
          <p:cNvPicPr/>
          <p:nvPr/>
        </p:nvPicPr>
        <p:blipFill>
          <a:blip r:embed="rId4"/>
          <a:stretch/>
        </p:blipFill>
        <p:spPr>
          <a:xfrm>
            <a:off x="7858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projects\99\sh2.png"/>
          <p:cNvPicPr/>
          <p:nvPr/>
        </p:nvPicPr>
        <p:blipFill>
          <a:blip r:embed="rId5"/>
          <a:stretch/>
        </p:blipFill>
        <p:spPr>
          <a:xfrm>
            <a:off x="135252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projects\99\sh2.png"/>
          <p:cNvPicPr/>
          <p:nvPr/>
        </p:nvPicPr>
        <p:blipFill>
          <a:blip r:embed="rId6"/>
          <a:stretch/>
        </p:blipFill>
        <p:spPr>
          <a:xfrm>
            <a:off x="192096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projects\99\sh2.png"/>
          <p:cNvPicPr/>
          <p:nvPr/>
        </p:nvPicPr>
        <p:blipFill>
          <a:blip r:embed="rId7"/>
          <a:stretch/>
        </p:blipFill>
        <p:spPr>
          <a:xfrm>
            <a:off x="249408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projects\99\sh2.png"/>
          <p:cNvPicPr/>
          <p:nvPr/>
        </p:nvPicPr>
        <p:blipFill>
          <a:blip r:embed="rId8"/>
          <a:stretch/>
        </p:blipFill>
        <p:spPr>
          <a:xfrm>
            <a:off x="3060720" y="182520"/>
            <a:ext cx="541440" cy="37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projects\99\sh2.png"/>
          <p:cNvPicPr/>
          <p:nvPr/>
        </p:nvPicPr>
        <p:blipFill>
          <a:blip r:embed="rId9"/>
          <a:stretch/>
        </p:blipFill>
        <p:spPr>
          <a:xfrm>
            <a:off x="362736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projects\99\sh2.png"/>
          <p:cNvPicPr/>
          <p:nvPr/>
        </p:nvPicPr>
        <p:blipFill>
          <a:blip r:embed="rId10"/>
          <a:stretch/>
        </p:blipFill>
        <p:spPr>
          <a:xfrm>
            <a:off x="42004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:\projects\99\sh2.png"/>
          <p:cNvPicPr/>
          <p:nvPr/>
        </p:nvPicPr>
        <p:blipFill>
          <a:blip r:embed="rId11"/>
          <a:stretch/>
        </p:blipFill>
        <p:spPr>
          <a:xfrm>
            <a:off x="4767120" y="182520"/>
            <a:ext cx="54324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projects\99\sh2.png"/>
          <p:cNvPicPr/>
          <p:nvPr/>
        </p:nvPicPr>
        <p:blipFill>
          <a:blip r:embed="rId12"/>
          <a:stretch/>
        </p:blipFill>
        <p:spPr>
          <a:xfrm>
            <a:off x="5334120" y="182520"/>
            <a:ext cx="542880" cy="37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1702800" y="90792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</a:rPr>
              <a:t>Щелкните левой кнопкой мыши по карте, чтобы ответ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51F-B194-4EAA-A7E5-E0F6AFC64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Международная научная Интернет-Конференци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Научно-техническая революция </a:t>
            </a:r>
            <a:r>
              <a:rPr b="1" lang="en-US" sz="1800" spc="-1" strike="noStrike">
                <a:solidFill>
                  <a:srgbClr val="000000"/>
                </a:solidFill>
                <a:latin typeface="Segoe"/>
              </a:rPr>
              <a:t>XXI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 века ‘2018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Scientific and technological revolution of the XXI century '2018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Segoe"/>
              </a:rPr>
              <a:t>Науково-технічна революція XXI століття '2018</a:t>
            </a: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»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с 12 по 13 июня 2018 г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76360" y="5589360"/>
            <a:ext cx="64008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Segoe"/>
              </a:rPr>
              <a:t>ДЕЯКІ АСПЕКТИ СТРАТЕГІЧНОГО РОЗВИТКУ НЕТРАДИЦІЙНОЇ ВІДНОВЛЮВАНОЇ ЕНЕРГЕТИКИ В УКРАЇНІ</a:t>
            </a:r>
            <a:endParaRPr b="0" lang="en-US" sz="2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2 Subtítulo"/>
          <p:cNvSpPr/>
          <p:nvPr/>
        </p:nvSpPr>
        <p:spPr>
          <a:xfrm>
            <a:off x="4356000" y="2060640"/>
            <a:ext cx="46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Ря</a:t>
            </a:r>
            <a:r>
              <a:rPr b="0" lang="uk-UA" sz="2000" spc="-1" strike="noStrike">
                <a:solidFill>
                  <a:srgbClr val="595959"/>
                </a:solidFill>
                <a:latin typeface="Calibri"/>
                <a:ea typeface="Arial"/>
              </a:rPr>
              <a:t>занова Наталія Олексіївна, к.е.н., доц.</a:t>
            </a: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ДЗ «Луганський національний університет ім. Т.Шевче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Segoe"/>
              </a:rPr>
              <a:t>Енергетика - провідна галузь в країні, від вибору довгострокової стратегії якої залежить розвиток усієї економіки. У енергетиці спостерігаються наростаючі багатофакторні кризові явища, як глобального, так внутрішньогалузевого характеру. Процеси глобального масштабу обумовлені, з одного боку, вичерпанням геологічних запасів основних видів паливних ресурсів - нафти і газу, а з іншого боку, зростанням негативних екологічних чинників, викликаних діяльністю в енергетиці і загрозливих катастрофічними наслідками. Це - основне протиріччя, яке вже в найближчому майбутньому може вплинути на стійкий розвиток і галузі, і суспільства в цілому. Виникле протиріччя вже не може бути вирішене традиційними методами і підходами.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Вступ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озробка стратегії альтернативної енергетики вимагає рішення комплексу проблем: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економічних - створення основ нової інвестиційної політики в енергетиц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управлінських - формування нової галузевої структури, реорганізація системи менеджменту в новій галуз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юридичних - створення правових основ для розвитку альтернативної енергетики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виробничо-технічних - розробка і реалізація програми освоєння технологій альтернативної енергетики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ішення проблем альтернативної енергетики неминуче стикається з необхідністю їх пріоритетного рішення на державному рівні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Перетворення, необхідні для розвитку нового напряму в енергетиці, які забезпечать її стійкий розвиток [1], і разом з нею розвиток усієї економіки представляє стратегічно важливе питання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аніше були розроблені критерії відбору і пріоритети освоєння альтернативних енергетичних технологій. Стратегія поступового заміщення традиційної енергетики на альтернативну повинна базуватися на фундаменті не лише нової концепції, але і на нових, інноваційних підходах до рішення усього комплексу пов'язаних з цим проблем. Інакше альтернативна енергетика ніколи не вирветься з рамок малої енергетики в нашій країні. Одне з первинних завдань організації майбутньої повномасштабної альтернативної енергетики - створення нової структури управління [2]. Перехід до нової техніко-економічної парадигми, що дозволяє здолати депресію і перейти до нового етапу економічного зростання, включає формування нових форм організації виробництва, нової структури інвестицій, нового типу інфраструктури, які забезпечують відповідні умови для розвитку інноваційного напряму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Основний текст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56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ереважне створення децентралізованої структури: дивізіональної з напівавтономним управлінням в регіонах. На найвищий орган управління при цьому покладається: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затвердження єдиної програми освоєння альтернативної енергетик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діяльності усієї структури по реалізації єдиної програм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реалізація через Верховну Раду законів, що забезпечують розвиток альтернативної енергетики і галузевих нормативних правових документів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роведення нової державної інвестиційної політики, що забезпечує, стійкий розвиток інноваційного напряму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5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єдиної технологічної політики у рамках галузі: стандартизація, уніфікація, інформаційне забезпечення, інтеграція підприємств, навчання, експортні постачання, виставки, конкурси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6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Необхідно виділення альтернативної енергетики в самостійний галузевий напрям і створення центрального органу - міністерства з усією інфраструктурою: державним апаратом і регіональними управліннями, наділеними відповідними повноваження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Структура регіональних управлінь має бути побудована по децентралізованому, дивізіональному типу: з функціональним апаратом, що забезпечить відносну самостійність розвитку регіонів. Нова галузь вимагає інвестиційної перебудови — нової інвестиційної політик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Рязанова</dc:creator>
  <dc:description/>
  <dc:language>en-US</dc:language>
  <cp:lastModifiedBy>ДП ПКФ ШАТЛ</cp:lastModifiedBy>
  <dcterms:modified xsi:type="dcterms:W3CDTF">2020-05-16T07:57:26Z</dcterms:modified>
  <cp:revision>6</cp:revision>
  <dc:subject/>
  <dc:title>Международная научная Интернет-Конференция  «Научно-техническая революция XXI века ‘2018 Scientific and technological revolution of the XXI century '2018 Науково-технічна революція XXI століття '2018» с 12 по 13 июня 2018 г.</dc:title>
</cp:coreProperties>
</file>