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8DC-44C8-4A31-AD0C-AA9C9B9D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D4EF-5ED4-4046-9ACF-A23E1CFD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E3C-3738-4851-B499-D401209D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0460-1FF9-42E8-8055-48A5CDB7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5AB5-61BE-4F97-A9D4-CF392800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7CF5-AE6D-47D0-B436-DB764536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4F58-4C54-4AA4-869E-0449E4D9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082F-29E7-40DB-AC70-CB81C995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B560-6A57-41C7-9C76-4FFEAE49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D1CD-D9CC-4AE5-AF08-1CC1A4CA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85E5-2897-4107-8A6A-93406222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4DD-DCD7-45F0-8D0A-78C2E844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586D-F78A-4F05-95D6-6D872351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7B5A-4E14-4FDF-A291-75A01184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EA35-1A61-4653-9CC2-17176BE9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6762-140C-4F0C-92EA-57F82324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7945-A0D0-4A48-84EE-6D90751D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859B7-90FD-47EB-B2A9-BC0924D4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6EF7B-7264-46EE-9C01-05A9C711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5DA21-1433-492E-8BD9-7E6AC5CF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0EA23-9B32-4A8C-9066-59686C98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FDF28-AFCF-4946-A677-3D9A7401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BE33-DD48-42B8-A74B-FD132957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5ECEB-EE60-459E-83DA-D67E0727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12BC3-9747-4798-8BE4-AB26388C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EFE60-A04F-48F8-BCBA-BB6116C6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6BC26-74D8-4956-BBD2-1D53D176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8F637-A422-497D-9161-FF552B6D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E2331-73DE-4AED-8D6E-94186DDE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569A1-AE5C-4D28-A0D3-55B4406B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402B-7A2C-4E33-BA52-165392C1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2A6-5B98-4D76-8E28-95F6AE6F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3679-903F-4B7D-994B-39C7F86F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7E0-9541-422A-A5B0-F655B488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478-D344-45DE-9922-EADE338F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824-929C-4AD6-8951-1172EE4C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D099-D633-4706-9969-1976748795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F704-2978-49F8-8295-CC5F674B0B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6"/>
          <p:cNvSpPr/>
          <p:nvPr/>
        </p:nvSpPr>
        <p:spPr>
          <a:xfrm>
            <a:off x="7659720" y="179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8" descr="C:\projects\99\sh2.png"/>
          <p:cNvPicPr/>
          <p:nvPr/>
        </p:nvPicPr>
        <p:blipFill>
          <a:blip r:embed="rId3"/>
          <a:stretch/>
        </p:blipFill>
        <p:spPr>
          <a:xfrm>
            <a:off x="212760" y="182520"/>
            <a:ext cx="549360" cy="37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:\projects\99\sh2.png"/>
          <p:cNvPicPr/>
          <p:nvPr/>
        </p:nvPicPr>
        <p:blipFill>
          <a:blip r:embed="rId4"/>
          <a:stretch/>
        </p:blipFill>
        <p:spPr>
          <a:xfrm>
            <a:off x="785880" y="182520"/>
            <a:ext cx="5428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C:\projects\99\sh2.png"/>
          <p:cNvPicPr/>
          <p:nvPr/>
        </p:nvPicPr>
        <p:blipFill>
          <a:blip r:embed="rId5"/>
          <a:stretch/>
        </p:blipFill>
        <p:spPr>
          <a:xfrm>
            <a:off x="1352520" y="182520"/>
            <a:ext cx="54288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:\projects\99\sh2.png"/>
          <p:cNvPicPr/>
          <p:nvPr/>
        </p:nvPicPr>
        <p:blipFill>
          <a:blip r:embed="rId6"/>
          <a:stretch/>
        </p:blipFill>
        <p:spPr>
          <a:xfrm>
            <a:off x="1920960" y="182520"/>
            <a:ext cx="541080" cy="37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C:\projects\99\sh2.png"/>
          <p:cNvPicPr/>
          <p:nvPr/>
        </p:nvPicPr>
        <p:blipFill>
          <a:blip r:embed="rId7"/>
          <a:stretch/>
        </p:blipFill>
        <p:spPr>
          <a:xfrm>
            <a:off x="2494080" y="182520"/>
            <a:ext cx="541080" cy="37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projects\99\sh2.png"/>
          <p:cNvPicPr/>
          <p:nvPr/>
        </p:nvPicPr>
        <p:blipFill>
          <a:blip r:embed="rId8"/>
          <a:stretch/>
        </p:blipFill>
        <p:spPr>
          <a:xfrm>
            <a:off x="3060720" y="182520"/>
            <a:ext cx="541440" cy="37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projects\99\sh2.png"/>
          <p:cNvPicPr/>
          <p:nvPr/>
        </p:nvPicPr>
        <p:blipFill>
          <a:blip r:embed="rId9"/>
          <a:stretch/>
        </p:blipFill>
        <p:spPr>
          <a:xfrm>
            <a:off x="3627360" y="182520"/>
            <a:ext cx="54288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C:\projects\99\sh2.png"/>
          <p:cNvPicPr/>
          <p:nvPr/>
        </p:nvPicPr>
        <p:blipFill>
          <a:blip r:embed="rId10"/>
          <a:stretch/>
        </p:blipFill>
        <p:spPr>
          <a:xfrm>
            <a:off x="4200480" y="182520"/>
            <a:ext cx="542880" cy="37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C:\projects\99\sh2.png"/>
          <p:cNvPicPr/>
          <p:nvPr/>
        </p:nvPicPr>
        <p:blipFill>
          <a:blip r:embed="rId11"/>
          <a:stretch/>
        </p:blipFill>
        <p:spPr>
          <a:xfrm>
            <a:off x="4767120" y="182520"/>
            <a:ext cx="543240" cy="37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C:\projects\99\sh2.png"/>
          <p:cNvPicPr/>
          <p:nvPr/>
        </p:nvPicPr>
        <p:blipFill>
          <a:blip r:embed="rId12"/>
          <a:stretch/>
        </p:blipFill>
        <p:spPr>
          <a:xfrm>
            <a:off x="5334120" y="182520"/>
            <a:ext cx="542880" cy="37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7"/>
          <p:cNvSpPr/>
          <p:nvPr/>
        </p:nvSpPr>
        <p:spPr>
          <a:xfrm>
            <a:off x="1702800" y="907920"/>
            <a:ext cx="57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Calibri"/>
              </a:rPr>
              <a:t>Щелкните левой кнопкой мыши по карте, чтобы ответ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ego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C2AF-995B-481F-A975-0989F8BDD3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Segoe"/>
              </a:rPr>
              <a:t>Международная научная Интернет-Конференция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Segoe"/>
              </a:rPr>
              <a:t>«</a:t>
            </a:r>
            <a:r>
              <a:rPr b="1" lang="ru-RU" sz="1800" spc="-1" strike="noStrike">
                <a:solidFill>
                  <a:srgbClr val="000000"/>
                </a:solidFill>
                <a:latin typeface="Segoe"/>
              </a:rPr>
              <a:t>Научно-техническая революция </a:t>
            </a:r>
            <a:r>
              <a:rPr b="1" lang="en-US" sz="1800" spc="-1" strike="noStrike">
                <a:solidFill>
                  <a:srgbClr val="000000"/>
                </a:solidFill>
                <a:latin typeface="Segoe"/>
              </a:rPr>
              <a:t>XXI</a:t>
            </a:r>
            <a:r>
              <a:rPr b="1" lang="ru-RU" sz="1800" spc="-1" strike="noStrike">
                <a:solidFill>
                  <a:srgbClr val="000000"/>
                </a:solidFill>
                <a:latin typeface="Segoe"/>
              </a:rPr>
              <a:t> века ‘2018</a:t>
            </a:r>
            <a:br>
              <a:rPr sz="1800"/>
            </a:b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Scientific and technological revolution of the XXI century '2018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Segoe"/>
              </a:rPr>
              <a:t>Науково-технічна революція XXI століття '2018</a:t>
            </a:r>
            <a:r>
              <a:rPr b="0" lang="ru-RU" sz="1800" spc="-1" strike="noStrike">
                <a:solidFill>
                  <a:srgbClr val="ff0000"/>
                </a:solidFill>
                <a:latin typeface="Segoe"/>
              </a:rPr>
              <a:t>»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Segoe"/>
              </a:rPr>
              <a:t>с 12 по 13 июня 2018 г.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76360" y="5589360"/>
            <a:ext cx="6400800" cy="9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95959"/>
                </a:solidFill>
                <a:latin typeface="Segoe"/>
              </a:rPr>
              <a:t>ДЕЯКІ АСПЕКТИ СТРАТЕГІЧНОГО РОЗВИТКУ НЕТРАДИЦІЙНОЇ ВІДНОВЛЮВАНОЇ ЕНЕРГЕТИКИ В УКРАЇНІ</a:t>
            </a:r>
            <a:endParaRPr b="0" lang="en-US" sz="22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37" name="2 Subtítulo"/>
          <p:cNvSpPr/>
          <p:nvPr/>
        </p:nvSpPr>
        <p:spPr>
          <a:xfrm>
            <a:off x="4356000" y="2060640"/>
            <a:ext cx="460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alibri"/>
                <a:ea typeface="Arial"/>
              </a:rPr>
              <a:t>Ря</a:t>
            </a:r>
            <a:r>
              <a:rPr b="0" lang="uk-UA" sz="2000" spc="-1" strike="noStrike">
                <a:solidFill>
                  <a:srgbClr val="595959"/>
                </a:solidFill>
                <a:latin typeface="Calibri"/>
                <a:ea typeface="Arial"/>
              </a:rPr>
              <a:t>занова Наталія Олексіївна, к.е.н., доц.</a:t>
            </a:r>
            <a:r>
              <a:rPr b="0" lang="ru-RU" sz="2000" spc="-1" strike="noStrike">
                <a:solidFill>
                  <a:srgbClr val="595959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alibri"/>
                <a:ea typeface="Arial"/>
              </a:rPr>
              <a:t>ДЗ «Луганський національний університет ім. Т.Шевчен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Rectangle 2"/>
          <p:cNvGrpSpPr/>
          <p:nvPr/>
        </p:nvGrpSpPr>
        <p:grpSpPr>
          <a:xfrm>
            <a:off x="-55440" y="5473800"/>
            <a:ext cx="9254880" cy="914400"/>
            <a:chOff x="-55440" y="5473800"/>
            <a:chExt cx="9254880" cy="914400"/>
          </a:xfrm>
        </p:grpSpPr>
        <p:pic>
          <p:nvPicPr>
            <p:cNvPr id="139" name="Rectangle 2" descr=""/>
            <p:cNvPicPr/>
            <p:nvPr/>
          </p:nvPicPr>
          <p:blipFill>
            <a:blip r:embed="rId1"/>
            <a:stretch/>
          </p:blipFill>
          <p:spPr>
            <a:xfrm>
              <a:off x="-55440" y="5473800"/>
              <a:ext cx="9254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0" y="5506920"/>
              <a:ext cx="914400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1" name="Blue9" descr="C:\projects\99\sh2.png"/>
          <p:cNvPicPr/>
          <p:nvPr/>
        </p:nvPicPr>
        <p:blipFill>
          <a:blip r:embed="rId2"/>
          <a:stretch/>
        </p:blipFill>
        <p:spPr>
          <a:xfrm>
            <a:off x="1940040" y="3909960"/>
            <a:ext cx="544320" cy="382680"/>
          </a:xfrm>
          <a:prstGeom prst="rect">
            <a:avLst/>
          </a:prstGeom>
          <a:ln w="0">
            <a:noFill/>
          </a:ln>
        </p:spPr>
      </p:pic>
      <p:pic>
        <p:nvPicPr>
          <p:cNvPr id="142" name="Red10" descr="C:\projects\99\sh2.png"/>
          <p:cNvPicPr/>
          <p:nvPr/>
        </p:nvPicPr>
        <p:blipFill>
          <a:blip r:embed="rId3"/>
          <a:stretch/>
        </p:blipFill>
        <p:spPr>
          <a:xfrm>
            <a:off x="6729480" y="3906720"/>
            <a:ext cx="542880" cy="384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Segoe"/>
              </a:rPr>
              <a:t>Енергетика - провідна галузь в країні, від вибору довгострокової стратегії якої залежить розвиток усієї економіки. У енергетиці спостерігаються наростаючі багатофакторні кризові явища, як глобального, так внутрішньогалузевого характеру. Процеси глобального масштабу обумовлені, з одного боку, вичерпанням геологічних запасів основних видів паливних ресурсів - нафти і газу, а з іншого боку, зростанням негативних екологічних чинників, викликаних діяльністю в енергетиці і загрозливих катастрофічними наслідками. Це - основне протиріччя, яке вже в найближчому майбутньому може вплинути на стійкий розвиток і галузі, і суспільства в цілому. Виникле протиріччя вже не може бути вирішене традиційними методами і підходами.</a:t>
            </a:r>
            <a:endParaRPr b="0" lang="en-US" sz="20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Segoe"/>
              </a:rPr>
              <a:t>Вступ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Rectangle 2"/>
          <p:cNvGrpSpPr/>
          <p:nvPr/>
        </p:nvGrpSpPr>
        <p:grpSpPr>
          <a:xfrm>
            <a:off x="-55440" y="5473800"/>
            <a:ext cx="9254880" cy="914400"/>
            <a:chOff x="-55440" y="5473800"/>
            <a:chExt cx="9254880" cy="914400"/>
          </a:xfrm>
        </p:grpSpPr>
        <p:pic>
          <p:nvPicPr>
            <p:cNvPr id="146" name="Rectangle 2" descr=""/>
            <p:cNvPicPr/>
            <p:nvPr/>
          </p:nvPicPr>
          <p:blipFill>
            <a:blip r:embed="rId1"/>
            <a:stretch/>
          </p:blipFill>
          <p:spPr>
            <a:xfrm>
              <a:off x="-55440" y="5473800"/>
              <a:ext cx="9254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0" y="5506920"/>
              <a:ext cx="914400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8" name="Blue9" descr="C:\projects\99\sh2.png"/>
          <p:cNvPicPr/>
          <p:nvPr/>
        </p:nvPicPr>
        <p:blipFill>
          <a:blip r:embed="rId2"/>
          <a:stretch/>
        </p:blipFill>
        <p:spPr>
          <a:xfrm>
            <a:off x="1940040" y="3909960"/>
            <a:ext cx="544320" cy="382680"/>
          </a:xfrm>
          <a:prstGeom prst="rect">
            <a:avLst/>
          </a:prstGeom>
          <a:ln w="0">
            <a:noFill/>
          </a:ln>
        </p:spPr>
      </p:pic>
      <p:pic>
        <p:nvPicPr>
          <p:cNvPr id="149" name="Red10" descr="C:\projects\99\sh2.png"/>
          <p:cNvPicPr/>
          <p:nvPr/>
        </p:nvPicPr>
        <p:blipFill>
          <a:blip r:embed="rId3"/>
          <a:stretch/>
        </p:blipFill>
        <p:spPr>
          <a:xfrm>
            <a:off x="6729480" y="3906720"/>
            <a:ext cx="542880" cy="384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323640" y="981000"/>
            <a:ext cx="8569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Розробка стратегії альтернативної енергетики вимагає рішення комплексу проблем: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1)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економічних - створення основ нової інвестиційної політики в енергетиці;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2)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управлінських - формування нової галузевої структури, реорганізація системи менеджменту в новій галузі;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3)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юридичних - створення правових основ для розвитку альтернативної енергетики;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4)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виробничо-технічних - розробка і реалізація програми освоєння технологій альтернативної енергетики.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Рішення проблем альтернативної енергетики неминуче стикається з необхідністю їх пріоритетного рішення на державному рівні.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Перетворення, необхідні для розвитку нового напряму в енергетиці, які забезпечать її стійкий розвиток [1], і разом з нею розвиток усієї економіки представляє стратегічно важливе питання.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Segoe"/>
              </a:rPr>
              <a:t>Раніше були розроблені критерії відбору і пріоритети освоєння альтернативних енергетичних технологій. Стратегія поступового заміщення традиційної енергетики на альтернативну повинна базуватися на фундаменті не лише нової концепції, але і на нових, інноваційних підходах до рішення усього комплексу пов'язаних з цим проблем. Інакше альтернативна енергетика ніколи не вирветься з рамок малої енергетики в нашій країні. Одне з первинних завдань організації майбутньої повномасштабної альтернативної енергетики - створення нової структури управління [2]. Перехід до нової техніко-економічної парадигми, що дозволяє здолати депресію і перейти до нового етапу економічного зростання, включає формування нових форм організації виробництва, нової структури інвестицій, нового типу інфраструктури, які забезпечують відповідні умови для розвитку інноваційного напряму.</a:t>
            </a: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  <a:p>
            <a:pPr marL="329040" indent="-3290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Segoe"/>
              </a:rPr>
              <a:t>Основний текст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Rectangle 2"/>
          <p:cNvGrpSpPr/>
          <p:nvPr/>
        </p:nvGrpSpPr>
        <p:grpSpPr>
          <a:xfrm>
            <a:off x="-55440" y="5473800"/>
            <a:ext cx="9254880" cy="914400"/>
            <a:chOff x="-55440" y="5473800"/>
            <a:chExt cx="9254880" cy="914400"/>
          </a:xfrm>
        </p:grpSpPr>
        <p:pic>
          <p:nvPicPr>
            <p:cNvPr id="153" name="Rectangle 2" descr=""/>
            <p:cNvPicPr/>
            <p:nvPr/>
          </p:nvPicPr>
          <p:blipFill>
            <a:blip r:embed="rId1"/>
            <a:stretch/>
          </p:blipFill>
          <p:spPr>
            <a:xfrm>
              <a:off x="-55440" y="5473800"/>
              <a:ext cx="9254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0" y="5506920"/>
              <a:ext cx="914400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5" name="Blue9" descr="C:\projects\99\sh2.png"/>
          <p:cNvPicPr/>
          <p:nvPr/>
        </p:nvPicPr>
        <p:blipFill>
          <a:blip r:embed="rId2"/>
          <a:stretch/>
        </p:blipFill>
        <p:spPr>
          <a:xfrm>
            <a:off x="1940040" y="3909960"/>
            <a:ext cx="544320" cy="382680"/>
          </a:xfrm>
          <a:prstGeom prst="rect">
            <a:avLst/>
          </a:prstGeom>
          <a:ln w="0">
            <a:noFill/>
          </a:ln>
        </p:spPr>
      </p:pic>
      <p:pic>
        <p:nvPicPr>
          <p:cNvPr id="156" name="Red10" descr="C:\projects\99\sh2.png"/>
          <p:cNvPicPr/>
          <p:nvPr/>
        </p:nvPicPr>
        <p:blipFill>
          <a:blip r:embed="rId3"/>
          <a:stretch/>
        </p:blipFill>
        <p:spPr>
          <a:xfrm>
            <a:off x="6729480" y="3906720"/>
            <a:ext cx="542880" cy="384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83628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Переважне створення децентралізованої структури: дивізіональної з напівавтономним управлінням в регіонах. На найвищий орган управління при цьому покладається: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1)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розробка і затвердження єдиної програми освоєння альтернативної енергетики;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2)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координація діяльності усієї структури по реалізації єдиної програми;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3)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розробка і реалізація через Верховну Раду законів, що забезпечують розвиток альтернативної енергетики і галузевих нормативних правових документів;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4)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проведення нової державної інвестиційної політики, що забезпечує, стійкий розвиток інноваційного напряму;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5)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Segoe"/>
              </a:rPr>
              <a:t>координація єдиної технологічної політики у рамках галузі: стандартизація, уніфікація, інформаційне забезпечення, інтеграція підприємств, навчання, експортні постачання, виставки, конкурси.</a:t>
            </a: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Rectangle 2"/>
          <p:cNvGrpSpPr/>
          <p:nvPr/>
        </p:nvGrpSpPr>
        <p:grpSpPr>
          <a:xfrm>
            <a:off x="-55440" y="5473800"/>
            <a:ext cx="9254880" cy="914400"/>
            <a:chOff x="-55440" y="5473800"/>
            <a:chExt cx="9254880" cy="91440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-55440" y="5473800"/>
              <a:ext cx="92548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506920"/>
              <a:ext cx="9144000" cy="8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Blue9" descr="C:\projects\99\sh2.png"/>
          <p:cNvPicPr/>
          <p:nvPr/>
        </p:nvPicPr>
        <p:blipFill>
          <a:blip r:embed="rId2"/>
          <a:stretch/>
        </p:blipFill>
        <p:spPr>
          <a:xfrm>
            <a:off x="1940040" y="3909960"/>
            <a:ext cx="544320" cy="382680"/>
          </a:xfrm>
          <a:prstGeom prst="rect">
            <a:avLst/>
          </a:prstGeom>
          <a:ln w="0">
            <a:noFill/>
          </a:ln>
        </p:spPr>
      </p:pic>
      <p:pic>
        <p:nvPicPr>
          <p:cNvPr id="162" name="Red10" descr="C:\projects\99\sh2.png"/>
          <p:cNvPicPr/>
          <p:nvPr/>
        </p:nvPicPr>
        <p:blipFill>
          <a:blip r:embed="rId3"/>
          <a:stretch/>
        </p:blipFill>
        <p:spPr>
          <a:xfrm>
            <a:off x="6729480" y="3906720"/>
            <a:ext cx="542880" cy="384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Segoe"/>
              </a:rPr>
              <a:t>Необхідно виділення альтернативної енергетики в самостійний галузевий напрям і створення центрального органу - міністерства з усією інфраструктурою: державним апаратом і регіональними управліннями, наділеними відповідними повноваженнями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35880" indent="-335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Segoe"/>
              </a:rPr>
              <a:t>Структура регіональних управлінь має бути побудована по децентралізованому, дивізіональному типу: з функціональним апаратом, що забезпечить відносну самостійність розвитку регіонів. Нова галузь вимагає інвестиційної перебудови — нової інвестиційної політики.</a:t>
            </a: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egoe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Segoe"/>
              </a:rPr>
              <a:t>Висновки</a:t>
            </a:r>
            <a:endParaRPr b="0" lang="en-US" sz="3200" spc="-1" strike="noStrike">
              <a:solidFill>
                <a:srgbClr val="000000"/>
              </a:solidFill>
              <a:latin typeface="Sego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 Рязанова</dc:creator>
  <dc:description/>
  <dc:language>en-US</dc:language>
  <cp:lastModifiedBy>ДП ПКФ ШАТЛ</cp:lastModifiedBy>
  <dcterms:modified xsi:type="dcterms:W3CDTF">2020-05-16T07:57:26Z</dcterms:modified>
  <cp:revision>6</cp:revision>
  <dc:subject/>
  <dc:title>Международная научная Интернет-Конференция  «Научно-техническая революция XXI века ‘2018 Scientific and technological revolution of the XXI century '2018 Науково-технічна революція XXI століття '2018» с 12 по 13 июня 2018 г.</dc:title>
</cp:coreProperties>
</file>