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B68-72B3-473E-983B-DD99A73A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7D7-398A-4477-AFCF-08BF2034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FD7-BF60-4D08-B3AF-4C5AA293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CAF-2908-4E8F-8636-F85E38CB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6EB8-B41D-43D4-AA6F-119CD504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77D1-1B77-4687-98B7-6A303B08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6346-60E4-40D6-8E9D-FCC60B32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7552-8C43-47EB-91E4-B7E4B8AF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A1ED-CF71-499B-959D-CFD1163B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524A-2F26-4F1C-9F63-DFD66EB6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547C-DC55-4AF9-9EBD-B5E31249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B82-C727-4A80-B0F3-EAF61A2E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742F-B5B4-41B4-BD6E-7F54AAC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06A1-B530-4A13-8A13-E2C741CA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1A0F-BAE5-445F-A6C1-1117024C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5611-27A0-4D19-AD69-32C9F9AC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645C-0480-4841-B0D0-9D55FCD4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99E7-1BC1-47B9-B09B-5B7E7208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7177-79D3-4DCE-9452-074104F2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D79AC-E80B-456A-BB06-DF4DBF73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E8D1-3C34-4F2C-93D0-ADD7FB93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6D25-4E71-4F33-B5A1-B77E67E5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109-3998-42E8-BA25-4AD05AA3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B644-19BE-4DDB-8183-B5C0E254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DA05-D089-4B48-B7AD-CE438728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763B-7CE8-4A0B-822F-3A60AEC3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CD525-80C8-4591-B15C-FA81357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E71F-4204-4CEC-8289-B26414B8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343E9-8BB1-4D60-84A7-23194506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2597F-A26C-4EE9-9C3F-0A4CA423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373-C9AF-4C87-8A42-8DCC67CB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A5B-F392-4734-A108-684BA6F0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450-3129-4FA0-AFAF-90002B7C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21B-76F0-4F43-AFD6-07BAAFE7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CFE-561F-4E84-8239-328DF35E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9CE-B4CB-4710-9E3B-B0E84597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4EE-FDA6-4978-AF5C-230BE7180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6E8B-1BC3-41C8-82A7-379B6A5EC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7659720" y="179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8" descr="C:\projects\99\sh2.png"/>
          <p:cNvPicPr/>
          <p:nvPr/>
        </p:nvPicPr>
        <p:blipFill>
          <a:blip r:embed="rId3"/>
          <a:stretch/>
        </p:blipFill>
        <p:spPr>
          <a:xfrm>
            <a:off x="212760" y="182520"/>
            <a:ext cx="549360" cy="37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:\projects\99\sh2.png"/>
          <p:cNvPicPr/>
          <p:nvPr/>
        </p:nvPicPr>
        <p:blipFill>
          <a:blip r:embed="rId4"/>
          <a:stretch/>
        </p:blipFill>
        <p:spPr>
          <a:xfrm>
            <a:off x="78588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projects\99\sh2.png"/>
          <p:cNvPicPr/>
          <p:nvPr/>
        </p:nvPicPr>
        <p:blipFill>
          <a:blip r:embed="rId5"/>
          <a:stretch/>
        </p:blipFill>
        <p:spPr>
          <a:xfrm>
            <a:off x="135252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projects\99\sh2.png"/>
          <p:cNvPicPr/>
          <p:nvPr/>
        </p:nvPicPr>
        <p:blipFill>
          <a:blip r:embed="rId6"/>
          <a:stretch/>
        </p:blipFill>
        <p:spPr>
          <a:xfrm>
            <a:off x="1920960" y="182520"/>
            <a:ext cx="541080" cy="37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:\projects\99\sh2.png"/>
          <p:cNvPicPr/>
          <p:nvPr/>
        </p:nvPicPr>
        <p:blipFill>
          <a:blip r:embed="rId7"/>
          <a:stretch/>
        </p:blipFill>
        <p:spPr>
          <a:xfrm>
            <a:off x="2494080" y="182520"/>
            <a:ext cx="541080" cy="37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projects\99\sh2.png"/>
          <p:cNvPicPr/>
          <p:nvPr/>
        </p:nvPicPr>
        <p:blipFill>
          <a:blip r:embed="rId8"/>
          <a:stretch/>
        </p:blipFill>
        <p:spPr>
          <a:xfrm>
            <a:off x="3060720" y="182520"/>
            <a:ext cx="541440" cy="37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projects\99\sh2.png"/>
          <p:cNvPicPr/>
          <p:nvPr/>
        </p:nvPicPr>
        <p:blipFill>
          <a:blip r:embed="rId9"/>
          <a:stretch/>
        </p:blipFill>
        <p:spPr>
          <a:xfrm>
            <a:off x="362736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projects\99\sh2.png"/>
          <p:cNvPicPr/>
          <p:nvPr/>
        </p:nvPicPr>
        <p:blipFill>
          <a:blip r:embed="rId10"/>
          <a:stretch/>
        </p:blipFill>
        <p:spPr>
          <a:xfrm>
            <a:off x="420048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C:\projects\99\sh2.png"/>
          <p:cNvPicPr/>
          <p:nvPr/>
        </p:nvPicPr>
        <p:blipFill>
          <a:blip r:embed="rId11"/>
          <a:stretch/>
        </p:blipFill>
        <p:spPr>
          <a:xfrm>
            <a:off x="4767120" y="182520"/>
            <a:ext cx="543240" cy="37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projects\99\sh2.png"/>
          <p:cNvPicPr/>
          <p:nvPr/>
        </p:nvPicPr>
        <p:blipFill>
          <a:blip r:embed="rId12"/>
          <a:stretch/>
        </p:blipFill>
        <p:spPr>
          <a:xfrm>
            <a:off x="5334120" y="182520"/>
            <a:ext cx="542880" cy="37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7"/>
          <p:cNvSpPr/>
          <p:nvPr/>
        </p:nvSpPr>
        <p:spPr>
          <a:xfrm>
            <a:off x="1702800" y="907920"/>
            <a:ext cx="57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alibri"/>
              </a:rPr>
              <a:t>Щелкните левой кнопкой мыши по карте, чтобы ответ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15FA-797D-49EB-9907-AFEC5D0E7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Международная научная Интернет-Конференци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Segoe"/>
              </a:rPr>
              <a:t>Научно-техническая революция </a:t>
            </a:r>
            <a:r>
              <a:rPr b="1" lang="en-US" sz="1800" spc="-1" strike="noStrike">
                <a:solidFill>
                  <a:srgbClr val="000000"/>
                </a:solidFill>
                <a:latin typeface="Segoe"/>
              </a:rPr>
              <a:t>XXI</a:t>
            </a:r>
            <a:r>
              <a:rPr b="1" lang="ru-RU" sz="1800" spc="-1" strike="noStrike">
                <a:solidFill>
                  <a:srgbClr val="000000"/>
                </a:solidFill>
                <a:latin typeface="Segoe"/>
              </a:rPr>
              <a:t> века ‘2018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Scientific and technological revolution of the XXI century '2018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Segoe"/>
              </a:rPr>
              <a:t>Науково-технічна революція XXI століття '2018</a:t>
            </a: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»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с 12 по 13 июня 2018 г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76360" y="5589360"/>
            <a:ext cx="640080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Segoe"/>
              </a:rPr>
              <a:t>ДЕЯКІ АСПЕКТИ СТРАТЕГІЧНОГО РОЗВИТКУ НЕТРАДИЦІЙНОЇ ВІДНОВЛЮВАНОЇ ЕНЕРГЕТИКИ В УКРАЇНІ</a:t>
            </a:r>
            <a:endParaRPr b="0" lang="en-US" sz="2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2 Subtítulo"/>
          <p:cNvSpPr/>
          <p:nvPr/>
        </p:nvSpPr>
        <p:spPr>
          <a:xfrm>
            <a:off x="4356000" y="2060640"/>
            <a:ext cx="46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alibri"/>
                <a:ea typeface="Arial"/>
              </a:rPr>
              <a:t>Ря</a:t>
            </a:r>
            <a:r>
              <a:rPr b="0" lang="uk-UA" sz="2000" spc="-1" strike="noStrike">
                <a:solidFill>
                  <a:srgbClr val="595959"/>
                </a:solidFill>
                <a:latin typeface="Calibri"/>
                <a:ea typeface="Arial"/>
              </a:rPr>
              <a:t>занова Наталія Олексіївна, к.е.н., доц.</a:t>
            </a:r>
            <a:r>
              <a:rPr b="0" lang="ru-RU" sz="20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alibri"/>
                <a:ea typeface="Arial"/>
              </a:rPr>
              <a:t>ДЗ «Луганський національний університет ім. Т.Шевчен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39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42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Segoe"/>
              </a:rPr>
              <a:t>Енергетика - провідна галузь в країні, від вибору довгострокової стратегії якої залежить розвиток усієї економіки. У енергетиці спостерігаються наростаючі багатофакторні кризові явища, як глобального, так внутрішньогалузевого характеру. Процеси глобального масштабу обумовлені, з одного боку, вичерпанням геологічних запасів основних видів паливних ресурсів - нафти і газу, а з іншого боку, зростанням негативних екологічних чинників, викликаних діяльністю в енергетиці і загрозливих катастрофічними наслідками. Це - основне протиріччя, яке вже в найближчому майбутньому може вплинути на стійкий розвиток і галузі, і суспільства в цілому. Виникле протиріччя вже не може бути вирішене традиційними методами і підходами.</a:t>
            </a:r>
            <a:endParaRPr b="0" lang="en-US" sz="20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Segoe"/>
              </a:rPr>
              <a:t>Вступ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46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8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49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2364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Розробка стратегії альтернативної енергетики вимагає рішення комплексу проблем: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1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економічних - створення основ нової інвестиційної політики в енергетиці;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2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управлінських - формування нової галузевої структури, реорганізація системи менеджменту в новій галузі;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3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юридичних - створення правових основ для розвитку альтернативної енергетики;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4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виробничо-технічних - розробка і реалізація програми освоєння технологій альтернативної енергетики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Рішення проблем альтернативної енергетики неминуче стикається з необхідністю їх пріоритетного рішення на державному рівні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Перетворення, необхідні для розвитку нового напряму в енергетиці, які забезпечать її стійкий розвиток [1], і разом з нею розвиток усієї економіки представляє стратегічно важливе питання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Раніше були розроблені критерії відбору і пріоритети освоєння альтернативних енергетичних технологій. Стратегія поступового заміщення традиційної енергетики на альтернативну повинна базуватися на фундаменті не лише нової концепції, але і на нових, інноваційних підходах до рішення усього комплексу пов'язаних з цим проблем. Інакше альтернативна енергетика ніколи не вирветься з рамок малої енергетики в нашій країні. Одне з первинних завдань організації майбутньої повномасштабної альтернативної енергетики - створення нової структури управління [2]. Перехід до нової техніко-економічної парадигми, що дозволяє здолати депресію і перейти до нового етапу економічного зростання, включає формування нових форм організації виробництва, нової структури інвестицій, нового типу інфраструктури, які забезпечують відповідні умови для розвитку інноваційного напряму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Segoe"/>
              </a:rPr>
              <a:t>Основний текст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53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56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Переважне створення децентралізованої структури: дивізіональної з напівавтономним управлінням в регіонах. На найвищий орган управління при цьому покладається: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1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розробка і затвердження єдиної програми освоєння альтернативної енергетики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2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координація діяльності усієї структури по реалізації єдиної програми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3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розробка і реалізація через Верховну Раду законів, що забезпечують розвиток альтернативної енергетики і галузевих нормативних правових документів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4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проведення нової державної інвестиційної політики, що забезпечує, стійкий розвиток інноваційного напряму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5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координація єдиної технологічної політики у рамках галузі: стандартизація, уніфікація, інформаційне забезпечення, інтеграція підприємств, навчання, експортні постачання, виставки, конкурси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62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Segoe"/>
              </a:rPr>
              <a:t>Необхідно виділення альтернативної енергетики в самостійний галузевий напрям і створення центрального органу - міністерства з усією інфраструктурою: державним апаратом і регіональними управліннями, наділеними відповідними повноваженням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Segoe"/>
              </a:rPr>
              <a:t>Структура регіональних управлінь має бути побудована по децентралізованому, дивізіональному типу: з функціональним апаратом, що забезпечить відносну самостійність розвитку регіонів. Нова галузь вимагає інвестиційної перебудови — нової інвестиційної політик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Segoe"/>
              </a:rPr>
              <a:t>Висновки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Рязанова</dc:creator>
  <dc:description/>
  <dc:language>en-US</dc:language>
  <cp:lastModifiedBy>ДП ПКФ ШАТЛ</cp:lastModifiedBy>
  <dcterms:modified xsi:type="dcterms:W3CDTF">2020-05-16T07:57:26Z</dcterms:modified>
  <cp:revision>6</cp:revision>
  <dc:subject/>
  <dc:title>Международная научная Интернет-Конференция  «Научно-техническая революция XXI века ‘2018 Scientific and technological revolution of the XXI century '2018 Науково-технічна революція XXI століття '2018» с 12 по 13 июня 2018 г.</dc:title>
</cp:coreProperties>
</file>